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760-ED86-4F20-8419-06D64665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96A-C833-46C8-8357-2D1D4C9E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BF3-994C-4437-8AA2-BBEFBA9F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F17-03CC-4038-9B9A-3AFDBBFE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A382-B2EA-4BEF-B6EF-32295AC1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78A-ABC5-4FD3-BE41-C1851B28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14F3-B4FC-4A78-A230-46365851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4BF6-9DF9-42F4-8C17-F04A4CAC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56F1-68ED-4696-ABE5-4659CA37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0854-3B47-4343-9292-446E9D68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D283-B560-4ED8-9EC0-A1AA644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F4A-691F-420D-80DD-B38385D3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87EB-1C87-41FB-A28A-7FDFE87F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93BD-191E-45D5-979A-3C3BCE4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CC97-4C3E-4C47-8874-809474F4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DF36-2ECF-4C3D-AD49-A0229229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CD98-4E26-4FC9-8D03-88B9DB77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C2C-927F-4285-848A-FC249E17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63F-BD91-4BD6-B959-E5CF3C07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82F-DBE3-43F6-B5A6-F1F08EB3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4DB-3C23-4BEB-9CF9-A0A49B28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617-CFCB-4D43-88F8-F513221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5A4-3FCE-42D7-BCB5-644D664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3EC-3687-45D3-A2C5-12071FA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B1FB-D842-4A79-9EDF-48BEAC3496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C769-E041-4635-80D7-D9C2849310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5" descr="geneve"/>
          <p:cNvPicPr/>
          <p:nvPr/>
        </p:nvPicPr>
        <p:blipFill>
          <a:blip r:embed="rId1"/>
          <a:stretch/>
        </p:blipFill>
        <p:spPr>
          <a:xfrm>
            <a:off x="3635280" y="2852640"/>
            <a:ext cx="2705040" cy="365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1880" cy="10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Genève est la deuxième ville de Suiss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1" descr=""/>
          <p:cNvPicPr/>
          <p:nvPr/>
        </p:nvPicPr>
        <p:blipFill>
          <a:blip r:embed="rId1"/>
          <a:stretch/>
        </p:blipFill>
        <p:spPr>
          <a:xfrm>
            <a:off x="3780000" y="508464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2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2881440" cy="213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"/>
          <p:cNvPicPr/>
          <p:nvPr/>
        </p:nvPicPr>
        <p:blipFill>
          <a:blip r:embed="rId3"/>
          <a:stretch/>
        </p:blipFill>
        <p:spPr>
          <a:xfrm>
            <a:off x="5651640" y="3357720"/>
            <a:ext cx="2666880" cy="16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’est une importante ville international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8876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s </a:t>
            </a:r>
            <a:r>
              <a:rPr b="0" lang="fr-CH" sz="3600" spc="-1" strike="noStrike">
                <a:solidFill>
                  <a:srgbClr val="000000"/>
                </a:solidFill>
                <a:latin typeface="Verdana"/>
              </a:rPr>
              <a:t>Fêtes de Genève sont un événement importa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44654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on célèbre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Jet d’Eau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fait 140 mètres de hau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635280" y="3141720"/>
            <a:ext cx="2303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Verdana"/>
              </a:rPr>
              <a:t>Les paysages de la région sont très beaux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il_fi" descr="1316599034"/>
          <p:cNvPicPr/>
          <p:nvPr/>
        </p:nvPicPr>
        <p:blipFill>
          <a:blip r:embed="rId1"/>
          <a:stretch/>
        </p:blipFill>
        <p:spPr>
          <a:xfrm>
            <a:off x="933480" y="2811600"/>
            <a:ext cx="2449440" cy="1625400"/>
          </a:xfrm>
          <a:prstGeom prst="rect">
            <a:avLst/>
          </a:prstGeom>
          <a:ln w="0">
            <a:noFill/>
          </a:ln>
        </p:spPr>
      </p:pic>
      <p:pic>
        <p:nvPicPr>
          <p:cNvPr id="110" name="il_fi" descr="http://www.surfriderleman.fr/Files/76555/Img/01/Geneve.jpg"/>
          <p:cNvPicPr/>
          <p:nvPr/>
        </p:nvPicPr>
        <p:blipFill>
          <a:blip r:embed="rId2"/>
          <a:stretch/>
        </p:blipFill>
        <p:spPr>
          <a:xfrm>
            <a:off x="5654520" y="3284640"/>
            <a:ext cx="2982960" cy="1993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 Vignoble République"/>
          <p:cNvPicPr/>
          <p:nvPr/>
        </p:nvPicPr>
        <p:blipFill>
          <a:blip r:embed="rId3"/>
          <a:stretch/>
        </p:blipFill>
        <p:spPr>
          <a:xfrm>
            <a:off x="2556000" y="4621320"/>
            <a:ext cx="2869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 CERN, on a découvert le World Wide Web et le boson de Higg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il_fi" descr="cern-image1"/>
          <p:cNvPicPr/>
          <p:nvPr/>
        </p:nvPicPr>
        <p:blipFill>
          <a:blip r:embed="rId1"/>
          <a:stretch/>
        </p:blipFill>
        <p:spPr>
          <a:xfrm>
            <a:off x="1258920" y="3860640"/>
            <a:ext cx="3527280" cy="2044800"/>
          </a:xfrm>
          <a:prstGeom prst="rect">
            <a:avLst/>
          </a:prstGeom>
          <a:ln w="0">
            <a:noFill/>
          </a:ln>
        </p:spPr>
      </p:pic>
      <p:pic>
        <p:nvPicPr>
          <p:cNvPr id="115" name="il_fi" descr="lhc"/>
          <p:cNvPicPr/>
          <p:nvPr/>
        </p:nvPicPr>
        <p:blipFill>
          <a:blip r:embed="rId2"/>
          <a:stretch/>
        </p:blipFill>
        <p:spPr>
          <a:xfrm>
            <a:off x="5076720" y="3860640"/>
            <a:ext cx="356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n peut y manger des plats suisses comme la fondue ou le chocola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il_fi" descr="http://www3.unil.ch/wpmu/aesc/wp-content/uploads/fondue.jpg"/>
          <p:cNvPicPr/>
          <p:nvPr/>
        </p:nvPicPr>
        <p:blipFill>
          <a:blip r:embed="rId1"/>
          <a:stretch/>
        </p:blipFill>
        <p:spPr>
          <a:xfrm>
            <a:off x="900000" y="3789360"/>
            <a:ext cx="3081600" cy="2212920"/>
          </a:xfrm>
          <a:prstGeom prst="rect">
            <a:avLst/>
          </a:prstGeom>
          <a:ln w="0">
            <a:noFill/>
          </a:ln>
        </p:spPr>
      </p:pic>
      <p:pic>
        <p:nvPicPr>
          <p:cNvPr id="119" name="il_fi" descr="http://www.swissinfo.ch/media/cms/images/null/2006/04/sriimg20060413_6627809_1.jpg"/>
          <p:cNvPicPr/>
          <p:nvPr/>
        </p:nvPicPr>
        <p:blipFill>
          <a:blip r:embed="rId2"/>
          <a:stretch/>
        </p:blipFill>
        <p:spPr>
          <a:xfrm>
            <a:off x="5148360" y="3789360"/>
            <a:ext cx="30956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0:12:09Z</dcterms:created>
  <dc:creator>CEC</dc:creator>
  <dc:description/>
  <dc:language>en-US</dc:language>
  <cp:lastModifiedBy>Delphine Gachet</cp:lastModifiedBy>
  <dcterms:modified xsi:type="dcterms:W3CDTF">2013-02-24T12:34:23Z</dcterms:modified>
  <cp:revision>5</cp:revision>
  <dc:subject/>
  <dc:title>Genève</dc:title>
</cp:coreProperties>
</file>